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9779-9B81-4307-A5FC-2B538CB3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1F0-3287-4970-8B88-BE7DB48F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66B-0C24-4F26-BD50-B6411501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7ED-3B40-4875-86AE-4E8F52DFC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962-92FA-4268-9B18-CE4B41A5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8B8-0672-44C5-B2C0-9D7A694E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76D-7DAB-43D7-8482-FE93F316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464-35A4-45F1-B7B3-6124B1CA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B3F4-7A51-4DEF-BBB3-22D5321B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DA10-82D2-49EB-B4A7-1E8AED49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1838-2771-47D3-97CD-73AABE98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BF9-AC89-4E5A-906D-620FF8B4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5BA-ADFE-4B83-A7B8-1A2A5BC2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9AC-32AC-4D49-904D-50791EA7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C4A-F9D6-45C6-A6FD-606FA120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0AC-44A7-434D-B339-8558EC97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BDF-1710-437D-A351-898BF04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4FE-7169-4F5A-A9D2-E53EEA46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54D-BFF5-4403-A68B-F23A8BF0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005-213F-46D8-8051-C2DE881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B15-A820-405E-B940-B1B4612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60E-483C-4011-91A3-53D8654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1E8-CE13-45CB-804C-C2B8E306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formations on the 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ransformers2007vv6"/>
          <p:cNvPicPr/>
          <p:nvPr/>
        </p:nvPicPr>
        <p:blipFill>
          <a:blip r:embed="rId1"/>
          <a:stretch/>
        </p:blipFill>
        <p:spPr>
          <a:xfrm>
            <a:off x="1676520" y="1459080"/>
            <a:ext cx="6629400" cy="539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2819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1981080"/>
            <a:ext cx="66294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Comic Sans MS"/>
              </a:rPr>
              <a:t>WHAT IS THAT?</a:t>
            </a: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TRANS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905120" y="1905120"/>
            <a:ext cx="579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I can tell you what it’s not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nsformations on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ordinate 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628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xamp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3600" y="1219320"/>
            <a:ext cx="90504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88880" y="380880"/>
            <a:ext cx="814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 o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200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18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ing a figure in a straight line is called a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993650000[1]"/>
          <p:cNvPicPr/>
          <p:nvPr/>
        </p:nvPicPr>
        <p:blipFill>
          <a:blip r:embed="rId1"/>
          <a:stretch/>
        </p:blipFill>
        <p:spPr>
          <a:xfrm>
            <a:off x="1143000" y="3581280"/>
            <a:ext cx="28940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3 -0.00855 L 0.43351 -0.00855 E">
                                      <p:cBhvr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pping a figure over a line is called a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fl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1993650000[1]"/>
          <p:cNvPicPr/>
          <p:nvPr/>
        </p:nvPicPr>
        <p:blipFill>
          <a:blip r:embed="rId1"/>
          <a:stretch/>
        </p:blipFill>
        <p:spPr>
          <a:xfrm>
            <a:off x="609480" y="3276720"/>
            <a:ext cx="3733920" cy="17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j01993650000[1]"/>
          <p:cNvPicPr/>
          <p:nvPr/>
        </p:nvPicPr>
        <p:blipFill>
          <a:blip r:embed="rId2"/>
          <a:stretch/>
        </p:blipFill>
        <p:spPr>
          <a:xfrm flipH="1">
            <a:off x="4648320" y="3276720"/>
            <a:ext cx="39621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a baby seeing themselves in a mirror, the image of a triangle will b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flec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it crosses anoth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1993650000[1]"/>
          <p:cNvPicPr/>
          <p:nvPr/>
        </p:nvPicPr>
        <p:blipFill>
          <a:blip r:embed="rId1"/>
          <a:stretch/>
        </p:blipFill>
        <p:spPr>
          <a:xfrm>
            <a:off x="304920" y="5097600"/>
            <a:ext cx="3733560" cy="176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1993650000[1]"/>
          <p:cNvPicPr/>
          <p:nvPr/>
        </p:nvPicPr>
        <p:blipFill>
          <a:blip r:embed="rId2"/>
          <a:stretch/>
        </p:blipFill>
        <p:spPr>
          <a:xfrm flipH="1">
            <a:off x="4952520" y="5097600"/>
            <a:ext cx="3962520" cy="176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irror"/>
          <p:cNvPicPr/>
          <p:nvPr/>
        </p:nvPicPr>
        <p:blipFill>
          <a:blip r:embed="rId3"/>
          <a:stretch/>
        </p:blipFill>
        <p:spPr>
          <a:xfrm>
            <a:off x="2133720" y="2354400"/>
            <a:ext cx="48765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ing a figure around a point or vertex is call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j01993650000[1]"/>
          <p:cNvPicPr/>
          <p:nvPr/>
        </p:nvPicPr>
        <p:blipFill>
          <a:blip r:embed="rId1"/>
          <a:stretch/>
        </p:blipFill>
        <p:spPr>
          <a:xfrm>
            <a:off x="533520" y="3797280"/>
            <a:ext cx="4265640" cy="26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j01993650000[1]"/>
          <p:cNvPicPr/>
          <p:nvPr/>
        </p:nvPicPr>
        <p:blipFill>
          <a:blip r:embed="rId2"/>
          <a:stretch/>
        </p:blipFill>
        <p:spPr>
          <a:xfrm rot="5400000">
            <a:off x="3848040" y="331488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780717198_100f326da0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tilt_a_whirl"/>
          <p:cNvPicPr/>
          <p:nvPr/>
        </p:nvPicPr>
        <p:blipFill>
          <a:blip r:embed="rId2"/>
          <a:stretch/>
        </p:blipFill>
        <p:spPr>
          <a:xfrm>
            <a:off x="4514760" y="685800"/>
            <a:ext cx="4629240" cy="330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merry-go-round"/>
          <p:cNvPicPr/>
          <p:nvPr/>
        </p:nvPicPr>
        <p:blipFill>
          <a:blip r:embed="rId3"/>
          <a:stretch/>
        </p:blipFill>
        <p:spPr>
          <a:xfrm>
            <a:off x="838080" y="2743200"/>
            <a:ext cx="4610160" cy="3765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5562720" y="4495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Ro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change when you transform a figure on the coordinat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819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4038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not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52480" y="52578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s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ree ways can you transform a figure on a coordinat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47920" y="2819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nslate, rotate, or 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a triangle on a coordinate plane.  I plan to transform it by translating it and reflecting it.  How will the triangles be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09480" y="3352680"/>
            <a:ext cx="8534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th transformations result in a new congruent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anslations slides the new figure to a new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eflection flips the new triangle over a line to a new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5:38:55Z</dcterms:created>
  <dc:creator>bhopkins</dc:creator>
  <dc:description/>
  <dc:language>en-US</dc:language>
  <cp:lastModifiedBy>Owner</cp:lastModifiedBy>
  <dcterms:modified xsi:type="dcterms:W3CDTF">2010-11-28T05:30:28Z</dcterms:modified>
  <cp:revision>11</cp:revision>
  <dc:subject/>
  <dc:title>Transformations on the Coordinate Plane</dc:title>
</cp:coreProperties>
</file>